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B5B-02F4-4921-BAC8-7114BA53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232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FE7-EDBF-4208-BEB6-78A58F87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2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2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B28-E76A-4301-AF89-6A34AAD8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294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294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2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2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2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668-C8C2-422F-9058-1D59BE16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ABE-6CE7-4302-9AC6-EFFE5897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5E2-6704-415E-AC07-D3991E18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E9D-0DEE-4346-AEA4-97EB3BD8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ED7-B1FC-49EC-837F-42E88544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917-3D9F-492C-87FF-0C70BCD4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2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57C-671D-4F5D-A27B-00D6D269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2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84A-99B9-4692-949D-BE23212A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232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B25-2C3B-4AF0-B18E-92DDAAA0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72E4-6F35-47A6-9A05-3A6F193C4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University of Illinois at Urbana-Champaign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AI Alpha Experience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581280"/>
            <a:ext cx="7467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Timothy W. Cole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-cole3@uiuc.ed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Thomas G. Habing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abing@uiuc.ed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rainger Engineering Library Information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3 January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ttp://dli.grainger.uiuc.edu/Publications/TWCole/OAIAlpha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Evaluative Comment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n Metadata, Minimal Effort to Implement O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to 2 Weeks to Design DB &amp; Upload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to 2 Weeks to Implement OAI Provider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ic, Modular Technology for Sharing Meta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able for Both Vertical &amp; Cross-Domain 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on to Institutions (like libraries) that Have Multiplicity of Diverse Coll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Work to Do on Harvest Service Ap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Powerful is Search Against LCD Metadata Sche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ss-Schema Mapping Issues Still Re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Linking &amp; Presentation Issues Re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47A-09ED-42EA-B5CA-F64103AE86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ossible Future Work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ernative System Archite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g., Exploit MS XML Front-End to SQL Serv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s XML to Map HTTP-Submitted Query to SQL Que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QL Response is Mapped Automatically to XM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SL-T Used to Transform Output to OAI Schem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s ISAPI Filter to Handle Mal-Formed Que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key OAI Provider Service Ap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g., Generic ASP with Template MS Access Data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AI Metadata Brokerage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g., Broker Harvests Metadata From Specific Grou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ker Provider Optimizes for Simultaneous U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urce Site Deals with Only Single Harve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5CC-A88F-4EFA-8C6B-BB94E52CEB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ontext &amp; Motiva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data Key to Several UIUC Pro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I / D-Lib Test Su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Imaging &amp; Multimedia Technology Initi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chives &amp; Special Collections Finding Aids (EA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lb-Proust Archive (TE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s on Smaller Scale, Domain-Specific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Body of Available Meta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ments Local Reference Resolution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ing Reliance of Academic Libraries on Digital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A8F-EF4C-4C7A-A894-429C5B33EF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etadata Contributed (Alpha Phase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-LIB Scientific / Technical Journal Arti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s from AIP &amp; APS publications (~5,500 objec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data in XML (RDF, DC, Local Namespac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ed Access &amp; Authorization Fea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ed &amp; Updated Metadata Records During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Imaging and Media Technology Initi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Cultural Heritage Community -- Digitized Images for Elementary Grades Curricula (~500 objec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data in Flat Database 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ned Future Add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ized Historical Aerial Photos of Illino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D Finding Aids for Manuscript Archive Coll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620-7D3D-4505-8A82-CF9E440D3E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omputing Environmen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69800"/>
            <a:ext cx="830592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S Windows NT 4.0 Operating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S Internet Information Server 4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tive Server Pages (VBScript &amp; JScrip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S SQL Server 7 and MS Access 9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-Lib XML Data Uploaded Using Visual Basic &amp; MSXML Parser / DOM Imple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ture Pl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dows 2000, IIS 5, SQL &amp; Access 2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ML Extensions for MS SQL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493-667B-426F-BABF-C8BF383066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ssumptions / Groundrule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Object Member of 1 and Only 1 Set Hierarc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w-Control Exclusively Using resumptionTok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ASCII Characters May Be Inclu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F-8 and &amp;#x0000; hexadecimal character refer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Investigated During Alpha Tes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chanisms to Maintain Server-Side Stateful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irection Using HTTP Hea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us=‘Deleted’ (Attribute of recordTyp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ernative Metadata Formats (e.g., DCQ or Formats Allowing Embedded Markup from XHTML Namespa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A4E-5216-4176-882C-E8BC27EC32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8153640" cy="587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8F7-7889-4573-8D2C-0035E36DB51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8153640" cy="587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448-7339-4158-93C3-B24DD4CA777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ystem Architecture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adata Maintained in Relational D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t table &amp; secondary tables (e.g., 1 each DC categor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itional tables for set descriptions &amp; supported sche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red Procedures Map DB Fields to Schema Eleme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-couples Database Schema from Metadata Schema(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AI Responses Built Dynam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ASP To Query DB &amp; Build Respon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Each OAI Verb becomes a Case Stat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XML Syntax &amp; Semantics Explicitly Coded in AS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HTTP Errors Constructed Using ASP Built-in Objec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Authentication &amp; Access Controls in global.as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Maintained Separate Log Fi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8A0-0369-4E6C-AB32-F916991E5B7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atabase Schema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429000" y="1523880"/>
            <a:ext cx="1981080" cy="1676160"/>
            <a:chOff x="3429000" y="1523880"/>
            <a:chExt cx="1981080" cy="1676160"/>
          </a:xfrm>
        </p:grpSpPr>
        <p:sp>
          <p:nvSpPr>
            <p:cNvPr id="57" name=""/>
            <p:cNvSpPr/>
            <p:nvPr/>
          </p:nvSpPr>
          <p:spPr>
            <a:xfrm>
              <a:off x="3429000" y="1523880"/>
              <a:ext cx="1981080" cy="1676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4960" y="1599840"/>
              <a:ext cx="1828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ou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object_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date_stam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920" y="4114800"/>
            <a:ext cx="1981080" cy="1676160"/>
            <a:chOff x="304920" y="4114800"/>
            <a:chExt cx="1981080" cy="1676160"/>
          </a:xfrm>
        </p:grpSpPr>
        <p:sp>
          <p:nvSpPr>
            <p:cNvPr id="60" name=""/>
            <p:cNvSpPr/>
            <p:nvPr/>
          </p:nvSpPr>
          <p:spPr>
            <a:xfrm>
              <a:off x="304920" y="4114800"/>
              <a:ext cx="1981080" cy="1676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880" y="4190760"/>
              <a:ext cx="1828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_Creato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object_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creato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705720" y="4114800"/>
            <a:ext cx="1981080" cy="1676160"/>
            <a:chOff x="6705720" y="4114800"/>
            <a:chExt cx="1981080" cy="1676160"/>
          </a:xfrm>
        </p:grpSpPr>
        <p:sp>
          <p:nvSpPr>
            <p:cNvPr id="63" name=""/>
            <p:cNvSpPr/>
            <p:nvPr/>
          </p:nvSpPr>
          <p:spPr>
            <a:xfrm>
              <a:off x="6705720" y="4114800"/>
              <a:ext cx="1981080" cy="1676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81680" y="4190760"/>
              <a:ext cx="182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_Tit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object_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tit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 flipH="1">
            <a:off x="2819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715000" y="5105520"/>
            <a:ext cx="762120" cy="152280"/>
            <a:chOff x="5715000" y="5105520"/>
            <a:chExt cx="762120" cy="152280"/>
          </a:xfrm>
        </p:grpSpPr>
        <p:sp>
          <p:nvSpPr>
            <p:cNvPr id="71" name=""/>
            <p:cNvSpPr/>
            <p:nvPr/>
          </p:nvSpPr>
          <p:spPr>
            <a:xfrm>
              <a:off x="6019920" y="5105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5000" y="51055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24840" y="5105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429000" y="4114800"/>
            <a:ext cx="1981080" cy="1676160"/>
            <a:chOff x="3429000" y="4114800"/>
            <a:chExt cx="1981080" cy="1676160"/>
          </a:xfrm>
        </p:grpSpPr>
        <p:sp>
          <p:nvSpPr>
            <p:cNvPr id="75" name=""/>
            <p:cNvSpPr/>
            <p:nvPr/>
          </p:nvSpPr>
          <p:spPr>
            <a:xfrm>
              <a:off x="3429000" y="4114800"/>
              <a:ext cx="1981080" cy="1676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04960" y="4190760"/>
              <a:ext cx="1828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_Subje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object_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subje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sche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14600" y="5029200"/>
            <a:ext cx="762120" cy="152280"/>
            <a:chOff x="2514600" y="5029200"/>
            <a:chExt cx="762120" cy="152280"/>
          </a:xfrm>
        </p:grpSpPr>
        <p:sp>
          <p:nvSpPr>
            <p:cNvPr id="78" name=""/>
            <p:cNvSpPr/>
            <p:nvPr/>
          </p:nvSpPr>
          <p:spPr>
            <a:xfrm>
              <a:off x="2819520" y="5029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5029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24440" y="5029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19051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20600" y="2209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9BC-068C-4688-8C13-8FC99E6282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7T18:13:28Z</dcterms:created>
  <dc:creator>Grainger Library</dc:creator>
  <dc:description/>
  <dc:language>en-US</dc:language>
  <cp:lastModifiedBy>Administrator</cp:lastModifiedBy>
  <dcterms:modified xsi:type="dcterms:W3CDTF">2001-01-23T15:17:51Z</dcterms:modified>
  <cp:revision>27</cp:revision>
  <dc:subject/>
  <dc:title>University of Illinois at UC OAI Alpha Metadata Experiences</dc:title>
</cp:coreProperties>
</file>